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gif" ContentType="image/gif"/>
  <Override PartName="/ppt/media/image29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9.gif" ContentType="image/gif"/>
  <Override PartName="/ppt/media/image14.jpeg" ContentType="image/jpeg"/>
  <Override PartName="/ppt/media/image15.png" ContentType="image/png"/>
  <Override PartName="/ppt/media/image11.png" ContentType="image/png"/>
  <Override PartName="/ppt/media/coin.wav" ContentType="audio/x-wav"/>
  <Override PartName="/ppt/media/image23.png" ContentType="image/pn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D3C8-5BEF-481D-97DF-030E0F5F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64DE-C1C2-4B52-A8A8-650A7F60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26F-DC34-43E9-9C24-9B5DADF2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C06E-ADD7-45F2-895A-56E01422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EB6E-65B5-40DA-903C-CEB24285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4B80-5C1E-412A-BEEE-41F356B7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25E8-B182-4E8E-97D0-8E1ACA9E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CB4A-6FCC-4534-B656-52CE8C7F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0341-BF19-4E13-A29C-DC7C96CA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FAFD-80E5-4274-BB1C-4660A999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F30D-8245-4B0E-852D-2462E05A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E17B-2FE2-4F9E-B638-EDBDEF17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125A-3FE4-49D6-BE6A-1C26CA7F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A19D-5C64-49B9-A709-E0001EAC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0DED-E3EB-486F-8CC1-F1C7E717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9169-3F3D-4571-8692-66A91E7D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E518-D282-4035-B7B3-C60D9468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714DB-B9AB-4D64-9470-58D49F1D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53AB2-0400-44E2-A522-6439AF23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2FD85-8308-4A22-9A93-683836D7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9E736-6597-44ED-9F2B-AD4A76A8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C8669-1193-47FC-B3A1-FE2B20FE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2984-6147-4FEA-A3F1-1CAC81AF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3A583-45A7-45ED-B5AD-830FC32E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C5224-CCB7-4C98-8EA6-F2BE717E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28DC8-66F4-49EA-ACE0-6AE28967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7FB5E-7598-428B-BB9A-36310C5C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D2CE4-A1D6-4695-AC1D-B54D97C9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721E8-450B-4365-BB44-579DEADC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9942A-5338-4A7F-961D-B3915967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21DBB-1C28-427E-A90D-0A6E00B6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A1CA5-BF6E-4D46-BA35-340AC275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8C605-B4C6-47B5-905B-A70910E7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2908-926B-4579-933B-BC577CEE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1F894-DBCC-4CDB-8A17-25D35833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29AEC-AB79-4325-9484-27F660C2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EFF32-58C8-4F92-B3DD-5C802BA4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F4887-1F66-4C15-B08C-F78A1D9A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64BFC-B549-4065-B767-19780B1B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10ECA-A458-4979-92BA-3E5C6748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EA0D4-F353-48CA-8B99-13DDB5CD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020D2-392D-484B-A4D6-BB9B2FDE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344F6-5608-4D64-9A95-C438DDCF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A196C-71DE-4960-959A-D5D62B8B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7BA0-3ADB-4C85-B630-67365395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73FBA-67BE-470E-902C-FB8C0132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E5DDA-3CA3-4E50-AA72-BC87F53D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9972B-E6F1-435A-B223-8781AFE6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0B672-D6B5-4C03-81E3-C7C6CCCE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99770-A807-49E1-A181-E9FA16B8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45193-B750-4002-8972-C545EFBF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B9638-F97E-4C7B-AF9F-758EB799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2425F-F345-4035-8F04-8C533F6F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EC264-913A-4AB0-91F9-8AE936AD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734DB-2E6F-4FDB-B40E-A9190C52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16F-61FF-46E1-AD92-7A6533E6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73B98-940A-4735-83D7-AF9A2237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57A3B-F17F-4CF2-A0A2-A7532774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A789B-8E87-4F0C-94B5-C8EC72E0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D5387-2403-4402-97CE-FA56532F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9D1F1-2AD1-44F8-89E4-8F358438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EE2EB-490B-486C-9410-DA9E3AEB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02504-8495-48AF-A420-76D9070C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B2343-D757-4967-838E-7BCCB749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66D20-E78E-498B-A748-C3720523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FA35E-3A81-4FBC-AFD3-30A9B033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80F-B006-4D1B-8F5F-8DB1564F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1D9F8-D1E8-4962-A6BF-3289CF6D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257F4-B6D7-42AF-974E-CFEA6048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19B40-07C5-41B8-8217-00AC4316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8E5-9E79-4DFA-8D12-37BA8CAA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0D4-DD18-4EFA-8DC9-04B57A9F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B929-C090-4EC7-A2FD-E6144205DA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D4C0-1B2D-4BBD-B34F-D566A189EA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6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6BCF-0F2F-4C9A-B495-BB036707528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1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C04D-1FE6-4A9D-9391-2C7888E973C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260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F254-F55B-455A-B13B-A4E1ACEE081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314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315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321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7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165C-83D1-4E38-B918-FE8A032AD0A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mailto:vtopildiev@mail.ru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Рисунок 4" descr="images_38[1].jpg"/>
          <p:cNvPicPr/>
          <p:nvPr/>
        </p:nvPicPr>
        <p:blipFill>
          <a:blip r:embed="rId1"/>
          <a:stretch/>
        </p:blipFill>
        <p:spPr>
          <a:xfrm>
            <a:off x="291960" y="-133200"/>
            <a:ext cx="7712280" cy="2138040"/>
          </a:xfrm>
          <a:prstGeom prst="rect">
            <a:avLst/>
          </a:prstGeom>
          <a:ln w="0">
            <a:noFill/>
          </a:ln>
        </p:spPr>
      </p:pic>
      <p:sp>
        <p:nvSpPr>
          <p:cNvPr id="368" name="Oval 9"/>
          <p:cNvSpPr/>
          <p:nvPr/>
        </p:nvSpPr>
        <p:spPr>
          <a:xfrm>
            <a:off x="7858080" y="285840"/>
            <a:ext cx="1143000" cy="1071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4360" y="2699640"/>
            <a:ext cx="8208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3500" spc="-1" strike="noStrike">
                <a:solidFill>
                  <a:srgbClr val="008000"/>
                </a:solidFill>
                <a:latin typeface="Arial"/>
              </a:rPr>
              <a:t>ТАЪЛИМ ВА ТАРБИЯ ЖАРАЁНЛАРИНИ ТАШКИЛ ЭТИШНИНГ  Қ</a:t>
            </a:r>
            <a:r>
              <a:rPr b="1" i="1" lang="ru-RU" sz="3500" spc="-1" strike="noStrike">
                <a:solidFill>
                  <a:srgbClr val="008000"/>
                </a:solidFill>
                <a:latin typeface="Arial"/>
              </a:rPr>
              <a:t>ОНУН ХУЖЖАТЛАР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95640" y="5300640"/>
            <a:ext cx="48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ю</a:t>
            </a:r>
            <a:r>
              <a:rPr b="1" lang="uz-Cyrl-UZ" sz="2000" spc="-1" strike="noStrike">
                <a:solidFill>
                  <a:srgbClr val="ffffff"/>
                </a:solidFill>
                <a:latin typeface="Tahoma"/>
              </a:rPr>
              <a:t>.ф.н., доцент  В.Р.Топилди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vtopildiev@mail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AutoShape 4"/>
          <p:cNvSpPr/>
          <p:nvPr/>
        </p:nvSpPr>
        <p:spPr>
          <a:xfrm>
            <a:off x="324000" y="1628640"/>
            <a:ext cx="8534160" cy="374508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Қонун</a:t>
            </a:r>
            <a:r>
              <a:rPr b="0" lang="uz-Cyrl-U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- Ўзбекистон Республикасида энг муҳим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барқарор  ижтимоий муносабатларни тартиб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соладиган, Ўзбекистон Республикаси Ол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жлиси томонидан ёки референдум ўткази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йўли билан қабул қилинадиган олий юрид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кучга эга бўл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AutoShape 4"/>
          <p:cNvSpPr/>
          <p:nvPr/>
        </p:nvSpPr>
        <p:spPr>
          <a:xfrm>
            <a:off x="324000" y="1628640"/>
            <a:ext cx="8640720" cy="374508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Фармон</a:t>
            </a: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Ўзбекистон Республикаси давла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бошлиғи томонидан мамлакатимизда биро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бир сохада жуда катта ўзгаришларга оли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келадиган ўта мухим масалалар бўйич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нинг Конституция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қонунлари асосида ҳамда уларни ижр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этиш учун қабул қилинади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4"/>
          <p:cNvSpPr/>
          <p:nvPr/>
        </p:nvSpPr>
        <p:spPr>
          <a:xfrm>
            <a:off x="395280" y="1628640"/>
            <a:ext cx="8534520" cy="345780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Фармойиш</a:t>
            </a: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кечиктириб бўлмайдиг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тезда бажарилиши лози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бўлг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салалар бўйича ваколатли давлат органлар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ёки мансабдор шахслар томонидан қабу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илинади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AutoShape 4"/>
          <p:cNvSpPr/>
          <p:nvPr/>
        </p:nvSpPr>
        <p:spPr>
          <a:xfrm>
            <a:off x="0" y="1484280"/>
            <a:ext cx="9144000" cy="388800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Қарор</a:t>
            </a: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Ўзбекистон Республикаси Конституция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қонунлари, Ўзбекистон Республикаси Ол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жлиси палаталарининг қарорлари, Ўзбекисто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Республикаси Президентининг фармонлар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арорлари ва фармойишлари асосида ҳам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уларни ижро этиш учун Ўзбекистон Республика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зирлар Маҳкамаси томонидан қабул қилинадиг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AutoShape 4"/>
          <p:cNvSpPr/>
          <p:nvPr/>
        </p:nvSpPr>
        <p:spPr>
          <a:xfrm>
            <a:off x="0" y="1197000"/>
            <a:ext cx="9325080" cy="453708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Буйруқ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идоралар, корхоналар ва ташкилотлар томонид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нинг Конституцияси 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онунлари, Ўзбекистон Республикаси Олий Мажли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Палаталарининг қарорлари, Ўзбекистон Республика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Президентининг фармонлари, қарорлари 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фармойишлари, Ўзбекистон Республикаси Вазирла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ҳкамасининг қарорлари ва фармойиш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асосида ҳамда уларни ижро этиш учун қабу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илинади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755640" y="404640"/>
            <a:ext cx="7848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аълим ва тарбия жараёнларин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ҳуқуқий асослар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1280" y="2205000"/>
            <a:ext cx="813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1.Ўзбекистон Республикасининг Конституцияс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26820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2.Ўзбекистон Республикасининг “Таълим тўғрисида”ги Қону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3.Кадрлар тайёрлаш Миллий Дасту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Ўзбекистон Республикаси Президентининг фармонлари, фармойишлари, қарорла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5.Ўзбекистон Республикаси Вазирлар Махкамасининг қарорла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хсус ваколатли давлат органлари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нинг буйруқла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4067280" y="2001960"/>
            <a:ext cx="489744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вало, барчамиз бир ҳақиқатни англаб, тушуниб бормоқдамиз – бугун жамиятимизда қандай ютуқ ва марраларга эришаётган бўлсак, буларнинг пойдеворида Конституциямиз, буюк ҳаёт қомусимиз турибди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200" spc="-1" strike="noStrike">
                <a:solidFill>
                  <a:srgbClr val="ffffff"/>
                </a:solidFill>
                <a:latin typeface="Tahoma"/>
              </a:rPr>
              <a:t>И.А.Карим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851280" cy="35463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C:\Users\Латыпов\Desktop\gerb.gif"/>
          <p:cNvPicPr/>
          <p:nvPr/>
        </p:nvPicPr>
        <p:blipFill>
          <a:blip r:embed="rId2"/>
          <a:stretch/>
        </p:blipFill>
        <p:spPr>
          <a:xfrm>
            <a:off x="179280" y="260280"/>
            <a:ext cx="8964720" cy="1197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D:\temur's documents\rasmlar temur\dars uchun\konstitutsiya.jpg"/>
          <p:cNvPicPr/>
          <p:nvPr/>
        </p:nvPicPr>
        <p:blipFill>
          <a:blip r:embed="rId3"/>
          <a:stretch/>
        </p:blipFill>
        <p:spPr>
          <a:xfrm>
            <a:off x="0" y="1700280"/>
            <a:ext cx="3995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5357880" cy="2305080"/>
          </a:xfrm>
          <a:prstGeom prst="rect">
            <a:avLst/>
          </a:prstGeom>
          <a:gradFill rotWithShape="0">
            <a:gsLst>
              <a:gs pos="0">
                <a:srgbClr val="99d4f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«Конституция» тушунчаси лотинча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titytio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» сўзидан келиб чиққан бўлиб, ўрнатиш жорий этиш маъносини билдиради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8177-5AC8-4DA0-A5E5-4677AD6BE92A}" type="slidenum">
              <a:rPr b="0" lang="en-US" sz="1200" spc="-1" strike="noStrike">
                <a:solidFill>
                  <a:srgbClr val="b5a788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 rot="1617600">
            <a:off x="6372000" y="1557000"/>
            <a:ext cx="2092320" cy="2654280"/>
          </a:xfrm>
          <a:prstGeom prst="rect">
            <a:avLst/>
          </a:prstGeom>
          <a:ln w="0">
            <a:noFill/>
          </a:ln>
        </p:spPr>
      </p:pic>
      <p:sp>
        <p:nvSpPr>
          <p:cNvPr id="426" name="Заголовок 1"/>
          <p:cNvSpPr/>
          <p:nvPr/>
        </p:nvSpPr>
        <p:spPr>
          <a:xfrm>
            <a:off x="826920" y="3789360"/>
            <a:ext cx="5113440" cy="2303640"/>
          </a:xfrm>
          <a:prstGeom prst="rect">
            <a:avLst/>
          </a:prstGeom>
          <a:gradFill rotWithShape="0">
            <a:gsLst>
              <a:gs pos="0">
                <a:srgbClr val="99d4f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Дунёдаги илк Конституция -1787 йилдаги АҚШнинг Конституцияси б</a:t>
            </a:r>
            <a:r>
              <a:rPr b="0" lang="uz-Cyrl-UZ" sz="2800" spc="-1" strike="noStrike">
                <a:solidFill>
                  <a:srgbClr val="0000ff"/>
                </a:solidFill>
                <a:latin typeface="Arial"/>
                <a:ea typeface="Arial"/>
              </a:rPr>
              <a:t>ўлиб,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 у шу кунгача амал қилиб келмоқ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472D-0010-4E35-9BBC-6B9643555839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4" descr=""/>
          <p:cNvPicPr/>
          <p:nvPr/>
        </p:nvPicPr>
        <p:blipFill>
          <a:blip r:embed="rId1"/>
          <a:stretch/>
        </p:blipFill>
        <p:spPr>
          <a:xfrm rot="1963200">
            <a:off x="7164000" y="980640"/>
            <a:ext cx="1419120" cy="1800360"/>
          </a:xfrm>
          <a:prstGeom prst="rect">
            <a:avLst/>
          </a:prstGeom>
          <a:ln w="0">
            <a:noFill/>
          </a:ln>
        </p:spPr>
      </p:pic>
      <p:sp>
        <p:nvSpPr>
          <p:cNvPr id="429" name="Заголовок 1"/>
          <p:cNvSpPr/>
          <p:nvPr/>
        </p:nvSpPr>
        <p:spPr>
          <a:xfrm>
            <a:off x="900000" y="2602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c00000"/>
                </a:solidFill>
                <a:latin typeface="Times New Roman"/>
                <a:ea typeface="Arial"/>
              </a:rPr>
              <a:t>ЎЗБЕКИСТОН РЕСПУБЛИКАСИ КОНСТИТУЦИЯСИНИНГ ТУЗИЛИШ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Diagram 7"/>
          <p:cNvGrpSpPr/>
          <p:nvPr/>
        </p:nvGrpSpPr>
        <p:grpSpPr>
          <a:xfrm>
            <a:off x="395280" y="1341360"/>
            <a:ext cx="8497440" cy="5230080"/>
            <a:chOff x="395280" y="1341360"/>
            <a:chExt cx="8497440" cy="5230080"/>
          </a:xfrm>
        </p:grpSpPr>
        <p:pic>
          <p:nvPicPr>
            <p:cNvPr id="431" name="Схема 7" descr=""/>
            <p:cNvPicPr/>
            <p:nvPr/>
          </p:nvPicPr>
          <p:blipFill>
            <a:blip r:embed="rId2"/>
            <a:stretch/>
          </p:blipFill>
          <p:spPr>
            <a:xfrm>
              <a:off x="395280" y="1532160"/>
              <a:ext cx="8497440" cy="50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Picture 13"/>
            <p:cNvSpPr/>
            <p:nvPr/>
          </p:nvSpPr>
          <p:spPr>
            <a:xfrm>
              <a:off x="538560" y="1341360"/>
              <a:ext cx="1980000" cy="13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3" name="Picture 5" descr="uz1"/>
          <p:cNvPicPr/>
          <p:nvPr/>
        </p:nvPicPr>
        <p:blipFill>
          <a:blip r:embed="rId3"/>
          <a:stretch/>
        </p:blipFill>
        <p:spPr>
          <a:xfrm>
            <a:off x="826920" y="1357200"/>
            <a:ext cx="2030760" cy="1230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B3AC-8371-4CAB-9EC6-E40D1B649D21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Organization Chart 68"/>
          <p:cNvGrpSpPr/>
          <p:nvPr/>
        </p:nvGrpSpPr>
        <p:grpSpPr>
          <a:xfrm>
            <a:off x="324000" y="78480"/>
            <a:ext cx="8424720" cy="6523560"/>
            <a:chOff x="324000" y="78480"/>
            <a:chExt cx="8424720" cy="6523560"/>
          </a:xfrm>
        </p:grpSpPr>
        <p:pic>
          <p:nvPicPr>
            <p:cNvPr id="436" name="Схема 6" descr=""/>
            <p:cNvPicPr/>
            <p:nvPr/>
          </p:nvPicPr>
          <p:blipFill>
            <a:blip r:embed="rId1"/>
            <a:stretch/>
          </p:blipFill>
          <p:spPr>
            <a:xfrm>
              <a:off x="324000" y="333360"/>
              <a:ext cx="8424720" cy="62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Picture 82"/>
            <p:cNvSpPr/>
            <p:nvPr/>
          </p:nvSpPr>
          <p:spPr>
            <a:xfrm rot="1963800">
              <a:off x="6419880" y="340920"/>
              <a:ext cx="1542600" cy="19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Picture 83"/>
            <p:cNvSpPr/>
            <p:nvPr/>
          </p:nvSpPr>
          <p:spPr>
            <a:xfrm>
              <a:off x="731160" y="340920"/>
              <a:ext cx="2183760" cy="14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9" name="Picture 5" descr="uz1"/>
          <p:cNvPicPr/>
          <p:nvPr/>
        </p:nvPicPr>
        <p:blipFill>
          <a:blip r:embed="rId2"/>
          <a:stretch/>
        </p:blipFill>
        <p:spPr>
          <a:xfrm>
            <a:off x="900000" y="642960"/>
            <a:ext cx="2473560" cy="1143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 rot="1963200">
            <a:off x="6573960" y="659880"/>
            <a:ext cx="1365120" cy="1729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140360" y="2349360"/>
            <a:ext cx="4824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 таълим тизимида таълим ва тарбиянинг узвий равишда олиб борилиши нафақат мамлакатнинг интеллектуал жиҳатдан юксалишига, шунингдек, маънавий баркамол бўлишини ҳам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ffffff"/>
                </a:solidFill>
                <a:latin typeface="Arial"/>
              </a:rPr>
              <a:t>таъминлайди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51640" y="6237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.А.Карим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3995640" cy="45813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Users\Латыпов\Desktop\gerb.gif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39640" y="2349360"/>
            <a:ext cx="8209080" cy="1739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Ўзбекистон Республикасининг 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аълим тўғрисида”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Қону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Rectangle 3"/>
          <p:cNvGrpSpPr/>
          <p:nvPr/>
        </p:nvGrpSpPr>
        <p:grpSpPr>
          <a:xfrm>
            <a:off x="395280" y="2128680"/>
            <a:ext cx="8424360" cy="4483080"/>
            <a:chOff x="395280" y="2128680"/>
            <a:chExt cx="8424360" cy="4483080"/>
          </a:xfrm>
        </p:grpSpPr>
        <p:pic>
          <p:nvPicPr>
            <p:cNvPr id="443" name="Rectangle 3" descr=""/>
            <p:cNvPicPr/>
            <p:nvPr/>
          </p:nvPicPr>
          <p:blipFill>
            <a:blip r:embed="rId1"/>
            <a:stretch/>
          </p:blipFill>
          <p:spPr>
            <a:xfrm>
              <a:off x="395280" y="2417400"/>
              <a:ext cx="8424360" cy="39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530280" y="2128680"/>
              <a:ext cx="823176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Умумий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қ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оидалар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аълим тизими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ва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урлар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аълим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 жараёни қатнашчиларини ижтимоий химоя қилиш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аълим тизими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ни бошқариш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Якунловчи қоидала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Rectangle 2"/>
          <p:cNvGrpSpPr/>
          <p:nvPr/>
        </p:nvGrpSpPr>
        <p:grpSpPr>
          <a:xfrm>
            <a:off x="684360" y="404640"/>
            <a:ext cx="8013240" cy="1511280"/>
            <a:chOff x="684360" y="404640"/>
            <a:chExt cx="8013240" cy="1511280"/>
          </a:xfrm>
        </p:grpSpPr>
        <p:pic>
          <p:nvPicPr>
            <p:cNvPr id="446" name="Rectangle 2" descr=""/>
            <p:cNvPicPr/>
            <p:nvPr/>
          </p:nvPicPr>
          <p:blipFill>
            <a:blip r:embed="rId2"/>
            <a:stretch/>
          </p:blipFill>
          <p:spPr>
            <a:xfrm>
              <a:off x="684360" y="404640"/>
              <a:ext cx="80132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760320" y="613440"/>
              <a:ext cx="7833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z-Cyrl-UZ" sz="3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i="1" lang="uz-Cyrl-UZ" sz="3200" spc="-1" strike="noStrike">
                  <a:solidFill>
                    <a:srgbClr val="ffffff"/>
                  </a:solidFill>
                  <a:latin typeface="Arial"/>
                </a:rPr>
                <a:t>Таълим тўғрисида”ги қонуннинг тузилиш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0920" y="285840"/>
            <a:ext cx="8032680" cy="127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аълим соҳасидаги давлат сиёсатининг асосий принциплари</a:t>
            </a:r>
            <a:r>
              <a:rPr b="1" i="1" lang="uz-Cyrl-UZ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Скругленный прямоугольник 4"/>
          <p:cNvGrpSpPr/>
          <p:nvPr/>
        </p:nvGrpSpPr>
        <p:grpSpPr>
          <a:xfrm>
            <a:off x="2195640" y="5157720"/>
            <a:ext cx="6754680" cy="1366560"/>
            <a:chOff x="2195640" y="5157720"/>
            <a:chExt cx="6754680" cy="1366560"/>
          </a:xfrm>
        </p:grpSpPr>
        <p:pic>
          <p:nvPicPr>
            <p:cNvPr id="450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95640" y="5157720"/>
              <a:ext cx="6754680" cy="13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2293920" y="5298840"/>
              <a:ext cx="65692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2000" spc="-1" strike="noStrike">
                  <a:solidFill>
                    <a:srgbClr val="ffffff"/>
                  </a:solidFill>
                  <a:latin typeface="Arial"/>
                </a:rPr>
                <a:t>Ў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рта махсус, касб-ҳунар таълими йўналишини: академик лицейда ёки касб-ҳунар коллежида ўқишни танлашнинг ихтиёрий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Скругленный прямоугольник 5"/>
          <p:cNvGrpSpPr/>
          <p:nvPr/>
        </p:nvGrpSpPr>
        <p:grpSpPr>
          <a:xfrm>
            <a:off x="2157480" y="4011480"/>
            <a:ext cx="6778440" cy="998640"/>
            <a:chOff x="2157480" y="4011480"/>
            <a:chExt cx="6778440" cy="998640"/>
          </a:xfrm>
        </p:grpSpPr>
        <p:pic>
          <p:nvPicPr>
            <p:cNvPr id="45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57480" y="401148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2255760" y="411336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Умумий ўрта,</a:t>
              </a:r>
              <a:r>
                <a:rPr b="1" lang="uz-Cyrl-UZ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ўрта махсус, касб-ҳунар таълимининг мажбурий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Скругленный прямоугольник 6"/>
          <p:cNvGrpSpPr/>
          <p:nvPr/>
        </p:nvGrpSpPr>
        <p:grpSpPr>
          <a:xfrm>
            <a:off x="2157480" y="2901960"/>
            <a:ext cx="6784920" cy="963720"/>
            <a:chOff x="2157480" y="2901960"/>
            <a:chExt cx="6784920" cy="963720"/>
          </a:xfrm>
        </p:grpSpPr>
        <p:pic>
          <p:nvPicPr>
            <p:cNvPr id="45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57480" y="2901960"/>
              <a:ext cx="678492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2252520" y="3038400"/>
              <a:ext cx="6604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аълимнинг узлуксизлиги ва изчил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Скругленный прямоугольник 7"/>
          <p:cNvGrpSpPr/>
          <p:nvPr/>
        </p:nvGrpSpPr>
        <p:grpSpPr>
          <a:xfrm>
            <a:off x="2157480" y="1755720"/>
            <a:ext cx="6784920" cy="1036800"/>
            <a:chOff x="2157480" y="1755720"/>
            <a:chExt cx="6784920" cy="1036800"/>
          </a:xfrm>
        </p:grpSpPr>
        <p:pic>
          <p:nvPicPr>
            <p:cNvPr id="45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157480" y="1755720"/>
              <a:ext cx="678492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2260440" y="1832040"/>
              <a:ext cx="6588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аълим ва тарбиянинг инсонпарвар, демократик характерда эканлиги;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1" name="Picture 2" descr=""/>
          <p:cNvPicPr/>
          <p:nvPr/>
        </p:nvPicPr>
        <p:blipFill>
          <a:blip r:embed="rId5"/>
          <a:stretch/>
        </p:blipFill>
        <p:spPr>
          <a:xfrm>
            <a:off x="571680" y="30718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" descr=""/>
          <p:cNvPicPr/>
          <p:nvPr/>
        </p:nvPicPr>
        <p:blipFill>
          <a:blip r:embed="rId6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"/>
          <p:cNvPicPr/>
          <p:nvPr/>
        </p:nvPicPr>
        <p:blipFill>
          <a:blip r:embed="rId7"/>
          <a:stretch/>
        </p:blipFill>
        <p:spPr>
          <a:xfrm>
            <a:off x="539640" y="5445000"/>
            <a:ext cx="1308240" cy="5461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"/>
          <p:cNvPicPr/>
          <p:nvPr/>
        </p:nvPicPr>
        <p:blipFill>
          <a:blip r:embed="rId8"/>
          <a:stretch/>
        </p:blipFill>
        <p:spPr>
          <a:xfrm>
            <a:off x="571680" y="2000160"/>
            <a:ext cx="12477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663840" y="591120"/>
            <a:ext cx="7979760" cy="778320"/>
          </a:xfrm>
          <a:prstGeom prst="rect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ълим тизимининг дунёвий характерда эканлиг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Прямоугольник с двумя скругленными противолежащими углами 6"/>
          <p:cNvSpPr/>
          <p:nvPr/>
        </p:nvSpPr>
        <p:spPr>
          <a:xfrm>
            <a:off x="539640" y="1773360"/>
            <a:ext cx="8158320" cy="100008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лат таълим стандартлари доирасида таълим олишнинг ҳамма учун очиқлиг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Прямоугольник с двумя скругленными противолежащими углами 6"/>
          <p:cNvSpPr/>
          <p:nvPr/>
        </p:nvSpPr>
        <p:spPr>
          <a:xfrm>
            <a:off x="539640" y="2997360"/>
            <a:ext cx="8229600" cy="93636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ълим дастурларини танлашга ягона ва табақалаштирилган ёндашу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Прямоугольник с двумя скругленными противолежащими углами 6"/>
          <p:cNvSpPr/>
          <p:nvPr/>
        </p:nvSpPr>
        <p:spPr>
          <a:xfrm>
            <a:off x="539640" y="4221000"/>
            <a:ext cx="8158320" cy="93672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имли бўлишни ва истеъдодни рағбатлантириш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Прямоугольник с двумя скругленными противолежащими углами 6"/>
          <p:cNvSpPr/>
          <p:nvPr/>
        </p:nvSpPr>
        <p:spPr>
          <a:xfrm>
            <a:off x="539640" y="5445000"/>
            <a:ext cx="8158320" cy="93672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ълим тизимида давлат ва жамоат бошқарувини уйғунлаштириш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900000" y="260280"/>
            <a:ext cx="763272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илим олиш ҳуқуқ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8360" y="1268280"/>
            <a:ext cx="842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1.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лат ва нодавлат таълим муассасаларини ривожлантири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2.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лаб чиқаришдан ажралган ва ажралмаган ҳолда таълим олишни ташкил эти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3.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ълим ва кадрлар тайёрлаш давлат дастурлари асосида бепул ўқитиш, шунингдек, таълим муассасаларида шартнома асосида тўлов эвазига касб-ҳунар ўргати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4.Б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рча турдаги таълим муассасаларининг битирувчилари кейинги босқичдаги ўқув юртларига киришда тенг ҳуқуқларга эга бўлиш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5.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лада ёки ўзи мустақил равишда билим олган фуқароларга аккредитациядан ўтган таълим муассасаларида экстернат тартибида аттестациядан ўтиш ҳуқуқини бериш орқали таъминланад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468360" y="1484280"/>
            <a:ext cx="8245440" cy="1440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гишли маълумоти, касб тайёргарлиги бор ва юксак ахлоқий фазилатларга эга бўлган шахслар педагогик фаолият билан шуғулланиш ҳуқуқига э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2"/>
          <p:cNvSpPr/>
          <p:nvPr/>
        </p:nvSpPr>
        <p:spPr>
          <a:xfrm>
            <a:off x="468360" y="3141720"/>
            <a:ext cx="8316720" cy="158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 ходимларни олий ўқув юртларига ишга қабул қилиш Ўзбекистон Республикаси Вазирлар Маҳкамаси тасдиқлаган Низомга мувофиқ танлов асосида амалга оширила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4869000"/>
            <a:ext cx="8318520" cy="158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ик фаолият билан шуғулланиш суд ҳукмига асосан ман этилган шахсларнинг таълим муассасаларида бу фаолият билан шуғулланишига йўл қўйилмай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68360" y="333000"/>
            <a:ext cx="8207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едагогик фаолият билан шу</a:t>
            </a:r>
            <a:r>
              <a:rPr b="1" lang="uz-Cyrl-UZ" sz="3000" spc="-1" strike="noStrike">
                <a:solidFill>
                  <a:srgbClr val="ffffff"/>
                </a:solidFill>
                <a:latin typeface="Arial"/>
              </a:rPr>
              <a:t>ғулланиш ҳуқуқ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ОЛИЙ ТАЪЛИМ ПЕДАГОГ КАДРЛАРИГА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ҚЎЙИЛАДИГАН ТАЛАБЛАР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64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лий таълим муассасаси ўқитувчиси магистр даражасидан паст бўлмаган олий маълумотга эга бўлиши, илмий-тадқиқот фаолиятини олиб бориши 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ва қуйидагиларни билиши лозим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лий таълим давлат таълим стандарти (асосий қоидалар), Кадрлар тайёрлашнинг тегишли таълим  йўналиши ва мутахассислиги бўйича давлат таълим стандарти, шунингдек, ўқитилаётган фан бўйича ўқув дастурини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лий таълим тўғрисидаги норматив - ҳуқуқий ва директив ҳужжатларни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352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калавриат йўналишлари ва магистратура ихтисослари бўйича ўқув жараёнини ташкил этиш ва унинг сифатини таъминлашнинг замонавий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қув режалари ва ўқув фанлари дастурларини такомиллаштириш принцип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қув юкламаларини режалаштириш ва уларнинг бажарилишини назорат қилиш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қув фанлари мазмуни ва уларни ўқитишдаги изчиллик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ўқув машғулотларининг ҳар хил турларини (маърузалар, амалий машғулотлар,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еминарлар,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лаборатория машғулотлари, курс ишларини) ўтказиш методикас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алабалар ўртасида миллий мустақиллик ғоялари асосида маънавий-ахлоқий ва тарбиявий ишларни олиб бориш принциплар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едагогика ва касб-ҳунар бўйича муомала қилиш назарияси ва амалиёт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аълим жараёни қатнашчилари билан ўзаро муносабатларда этика нормалари ва нутқ маданият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чет тиллардан биттасида сўзлашув нутқи асослар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82090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стақил таълим олиш йўли билан ўз билимларини такомиллаштириш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лабаларда танқидий фикрлашни шакллантириш принцип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калавриат ва магистратура таълим дастурларида изчиллик ва мослашувчанликни ташкилий ва методик таъминлаш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дрлар буюртмачилари ва меҳнат бозори эҳтиёжларини ҳисобга олган ҳолда ўқув режаларини ва фан дастурларини шакллантириш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лабаларнинг ўз билимини мустақил оширишини ташкилий ва методик таъминлаш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11280" y="765000"/>
            <a:ext cx="8137440" cy="5040360"/>
          </a:xfrm>
          <a:prstGeom prst="flowChartMultidocument">
            <a:avLst/>
          </a:prstGeom>
          <a:solidFill>
            <a:srgbClr val="0000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ffffff"/>
                </a:solidFill>
                <a:latin typeface="Arial"/>
              </a:rPr>
              <a:t>Меъёрий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ҳуқуқий ҳужжа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-  бу 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матив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ҳуқуқий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хужжатлар тўғрисидаги 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ун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вофиқ қабул қилинган, умуммажбур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влат кўрсатмалари сифатида ҳуқуқ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рмаларни белгилашга, ўзгартиришга ё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кор қилишга қаратилган расмий ҳужжатди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134120" y="5095800"/>
            <a:ext cx="20098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539280" y="98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лабаларнинг билимлари, маҳоратлари ва кўникмаларини рейтинг бўйича назорат қилишни ташкил этиш ва илмий-методик таъминлаш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дрлар тайёрлаш сифатига таъсир кўрсатадиган омиллар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, фан ва ишлаб чиқаришни интеграциялашни ташкил этиш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қтидорли талабаларни қидириб топиш, танлаш ва улар билан ишлаш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лий таълимда менежмент ва маркетинг асослари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042920" y="4726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ълим муассасасининг 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ҳуқуқий мақом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11280" y="2118600"/>
            <a:ext cx="820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си юридик шахс бўлиб, қонун ҳужжатларида белгиланган тартибда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ташки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тилад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си қонун ҳужжатларига мувофиқ ишлаб чиқилган устав асосида фаолият кўрсата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лари уставда белгиланган вазифаларига мувофиқ пулли таълим хизматлари кўрсатиш, шунингдек, тадбиркорлик фаолиятининг бошқа турлари билан шуғулланишга ҳақ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11280" y="1257480"/>
            <a:ext cx="8208720" cy="43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ълим муассасалаpи уставини ишлаб чи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ш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РТИБ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Ўзбекистон Республикаси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азирлар Маҳкамасининг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1998 йил 5 январдаги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5-сон қаpоpига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3-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илова сифатида тасдиқланган.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Мазкур Тартибга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Ўзбекистон Республикаси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В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азирлар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аҳкамасининг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20.06.2011 й. 183-сон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ли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Қарорига мувофиқ ўзгартиришлар киритилган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971640" y="6897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УСТАВНИНГ ТУЗИЛИШ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1280" y="2023200"/>
            <a:ext cx="813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умий қоидалаp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Таълим муассасасининг мақсад ва вазифалаp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олувчила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-тарбиявий ва илмий-услубий 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ъ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м муассасасининг тузилиш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 ходимлар,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-тарбиявий ходимл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сига рахбарлик кил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амоат ташкилот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л-мулки ва мабла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ғ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10.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йта ташкил этиш ва тугатиш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тартиб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755640" y="549360"/>
            <a:ext cx="7704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влат таълим стандартла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39640" y="2421000"/>
            <a:ext cx="81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влат таълим стандартлари умумий ўрта, ўрта махсус, касб-ҳунар ва олий таълим мазмунига ҳамда сифатига қўйиладиган талабларни белгилай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влат таълим стандартларини бажариш Ўзбекистон Республикасининг барча таълим муассасалари учун мажбурийди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1547640" y="549360"/>
            <a:ext cx="619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аълим тизим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8360" y="1773360"/>
            <a:ext cx="8351640" cy="46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Давлат стандартларига мувофиқ таълим дастурларини амалга оширувчи давлат ва нодавлат таълим муассасалари;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Таълим тизимининг фаолият кўрсатиши ва ривожланишини таъминлаш учун зарур бўлган тадқиқот ишларини бажарувчи илмий-педагогик муассасалар;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Таълим соҳасидаги давлат бошқарув органлари, шунингдек, уларга қарашли корхоналар, муассасалар ва ташкилотлар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Ўзбекистон Республикасида таълим </a:t>
            </a:r>
            <a:r>
              <a:rPr b="0" lang="uz-Cyrl-UZ" sz="4000" spc="-1" strike="noStrike">
                <a:solidFill>
                  <a:srgbClr val="ffffff"/>
                </a:solidFill>
                <a:latin typeface="Arial"/>
              </a:rPr>
              <a:t>турлар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ктабгача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умий ўрта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ўрта махсус, касб-ҳунар таълим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ий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ий ўқув юртидан кейинги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дрлар малакасини ошириш ва уларни қайта тайёрлаш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ктабдан ташқари таъл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аълим тўғрисидаги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ҳужжатл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8137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кредитация қилинган таълим муассасаларининг битирувчиларига давлат томонидан тасдиқланган намунадаги маълумот тўғрисидаги ҳужжат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берилад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ттестат</a:t>
            </a: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32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п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ртифика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воҳно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900000" y="40464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ЪЛИМ ЖАРАЁНИ ҚАТНАШЧИЛАРИНИ ИЖТИМОИЙ ҲИМОЯ ҚИЛ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58920" y="1628640"/>
            <a:ext cx="6913440" cy="719280"/>
          </a:xfrm>
          <a:prstGeom prst="wedgeRoundRectCallout">
            <a:avLst>
              <a:gd name="adj1" fmla="val -43754"/>
              <a:gd name="adj2" fmla="val 16226"/>
              <a:gd name="adj3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Таълим олувчиларни ижтимоий ҳимоя қилиш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187280" y="2637000"/>
            <a:ext cx="6913800" cy="792000"/>
          </a:xfrm>
          <a:prstGeom prst="wedgeRoundRectCallout">
            <a:avLst>
              <a:gd name="adj1" fmla="val -43754"/>
              <a:gd name="adj2" fmla="val 10120"/>
              <a:gd name="adj3" fmla="val 16667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Таълим муассасалари ходимларини ижтимоий ҳимоя қили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58920" y="3645000"/>
            <a:ext cx="6913440" cy="1152360"/>
          </a:xfrm>
          <a:prstGeom prst="wedgeRoundRectCallout">
            <a:avLst>
              <a:gd name="adj1" fmla="val -43754"/>
              <a:gd name="adj2" fmla="val 3856"/>
              <a:gd name="adj3" fmla="val 16667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Етим болаларни ва ота-оналарининг ёки бошқа қонуний вакилларининг васийлигисиз қолган болаларни ўқитиш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87280" y="5013360"/>
            <a:ext cx="6913800" cy="1008000"/>
          </a:xfrm>
          <a:prstGeom prst="wedgeRoundRectCallout">
            <a:avLst>
              <a:gd name="adj1" fmla="val -42722"/>
              <a:gd name="adj2" fmla="val 68740"/>
              <a:gd name="adj3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смоний ёки руҳий ривожланишида нуқсони бўлган болалар ва ўсмирларни ўқитиш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95280" y="236628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39640" y="2349360"/>
            <a:ext cx="8209080" cy="1922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ОЛИЙ ТАЪЛИМ ТИЗИМИНИ БОШҚАРИШ ВАЗИРЛАР МАҲКАМАСИ ВА ТАЪЛИМНИ БОШҚАРИШ БЎЙИЧА ВАКОЛАТЛИ ДАВЛАТ ИДОРАСИ ТОМОНИДАН АМАЛГА ОШИРИЛ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11280" y="41256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800" spc="-1" strike="noStrike">
                <a:solidFill>
                  <a:srgbClr val="ffffff"/>
                </a:solidFill>
                <a:latin typeface="Arial"/>
              </a:rPr>
              <a:t>Меъёрий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-ҳуқуқий ҳужжатлар қабул қили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ҳуқуқига эга бўлган органлар ёки мансабдор шахс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9640" y="2329560"/>
            <a:ext cx="82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збекистон Республикаси Олий Мажлисининг палаталар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збекистон Республикасининг Президент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збекистон Республикаси Вазирлар Маҳкамас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4.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зирликлар, давлат қўмиталари ва идоралар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5.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ҳаллий давлат ҳокимияти органлар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64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Ўзбекистон Республикас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Вазирлар Ма</a:t>
            </a:r>
            <a:r>
              <a:rPr b="1" lang="uz-Cyrl-UZ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масининг таълим со</a:t>
            </a:r>
            <a:r>
              <a:rPr b="1" lang="uz-Cyrl-UZ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сидаги ваколат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со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сида ягона давлат сиёсатини амалга ошир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со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сидаги давлат бош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руви органларига раҳбарлик 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ил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ни ривожлантириш дастурларини ишлаб чиқиш ва амалга ошир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муассасаларини ташкил этиш, қайта ташкил этиш ва тугатиш тартибини белгила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муассасаларини аккредитациядан, педагог, илмий кадрларни аттестациядан ўтказиш тартибини белгила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шқа давлатларнинг таълим муассасаларига Ўзбекистон Республикасининг ҳудудида таълим фаолияти билан шуғулланиш ҳуқуқини берувчи рухсатномалар бер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ун ҳужжатларига мувофиқ хорижий давлатларнинг таълим тўғрисидаги ҳужжатларини тан олиш ва ҳужжатларнинг эквивалент эканлигини қайд этиш тартибини белгилаш;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таълим стандартларини тасдиқ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томонидан тасдиқланган намунадаги маълумот тўғрисидаги ҳужжатларни тасдиқлаш ва уларни бериш тартибини белги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грантлари миқдори ва таълим муассасаларига қабул қилиш тартибини белги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олий таълим муассасасининг ректорларини тайин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ълим олувчиларни аккредитация қилинган бир таълим муассасасидан бошқасига ўтказиш тартибини белги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ун ҳужжатларига мувофиқ бошқа ваколатла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50920" y="357480"/>
            <a:ext cx="8424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600" spc="-1" strike="noStrike">
                <a:solidFill>
                  <a:srgbClr val="ffffff"/>
                </a:solidFill>
                <a:latin typeface="Arial"/>
              </a:rPr>
              <a:t>Таълимни бошқариш бўйича махсус ваколат берилган давлат органларининг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600" spc="-1" strike="noStrike">
                <a:solidFill>
                  <a:srgbClr val="ffffff"/>
                </a:solidFill>
                <a:latin typeface="Arial"/>
              </a:rPr>
              <a:t>ҳуқуқ доирасига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8360" y="1753920"/>
            <a:ext cx="834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Т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аълим соҳасида ягона давлат сиёсатини рўёбга чиқар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Т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аълим муассасалари фаолиятини мувофиқлаштириш ва услубий масалаларда уларга раҳбарлик қил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Д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авлат таълим стандартлари, мутахассисларнинг билим савияси ва касб тайёргарлигига бўлган талаблар бажарилишини таъминла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4.Ў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қув ва ўқув-услубий адабиётларини нашр этишни ташкил қил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95280" y="460800"/>
            <a:ext cx="849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5.Ўқитишнинг илғор шакллари ва педагогик технологияларни, таълимнинг техник ва ахборот воситаларини ўқув жараёнига жорий э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6.Таълим олувчиларнинг якуний давлат аттестацияси ва  экстернат тўғрисидаги низомларини тасдиқла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7.Давлат олий таълим муассасасининг ректорини тайинлаш тўғрисида Вазирлар Маҳкамасига таклифлар кири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8.Педагог ходимларни тайёрлашни, уларнинг малакасини оширишни ва қайта тайёрлашни ташкил э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9.Қонун ҳужжатларига мувофиқ бошқа ваколатл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333360" y="392400"/>
            <a:ext cx="84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ffffff"/>
                </a:solidFill>
                <a:latin typeface="Tahoma"/>
              </a:rPr>
              <a:t>Маҳаллий давлат ҳокимияти органларининг таълим соҳасидаги ваколат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8360" y="1527840"/>
            <a:ext cx="835164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1.Таълим муассасалари фаолиятининг минтақаларни ижтимоий-иқтисодий ривожлантириш эҳтиёжларига мувофиқлигини таъминла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2.Таълим муассасаларини ташкил этиш, қайта ташкил этиш ва тугатиш  уларнинг уставларини рўйхатга ол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3.Ўз ҳудудларидаги таълим муассасаларини ваколат доирасида молиялаш миқдорларини ва имтиёзларни белгила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4.Таълим сифати ва даражасига, шунингдек, педагог ходимларнинг касб фаолиятига бўлган давлат талабларига риоя этилишини таъминлаш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5.Қонун ҳужжатларига мувофиқ бошқа ваколатлар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468360" y="2527920"/>
            <a:ext cx="7201440" cy="3022560"/>
          </a:xfrm>
          <a:prstGeom prst="rect">
            <a:avLst/>
          </a:prstGeom>
          <a:solidFill>
            <a:srgbClr val="000099"/>
          </a:solidFill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600" spc="-1" strike="noStrike">
                <a:solidFill>
                  <a:srgbClr val="ffffff"/>
                </a:solidFill>
                <a:latin typeface="Arial"/>
              </a:rPr>
              <a:t>Вояга етмаган болаларнинг ота-оналари ёки қонуний вакиллари боланинг қонуний ҳуқуқлари ва манфаатларини ҳимоя қилишлари шарт эканлиги ҳамда уларнинг тарбияси, мактабгача, умумий ўрта, ўрта махсус, касб-ҳунар таълими олишлари учун жавобгар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рямоугольник с двумя скругленными противолежащими углами 14"/>
          <p:cNvSpPr/>
          <p:nvPr/>
        </p:nvSpPr>
        <p:spPr>
          <a:xfrm>
            <a:off x="684360" y="260280"/>
            <a:ext cx="8135640" cy="1297080"/>
          </a:xfrm>
          <a:prstGeom prst="pie">
            <a:avLst/>
          </a:prstGeom>
          <a:solidFill>
            <a:srgbClr val="3366ff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а-оналар ёки қонуний вакиллар</a:t>
            </a:r>
            <a:r>
              <a:rPr b="1" i="1" lang="uz-Cyrl-UZ" sz="3200" spc="-1" strike="noStrike">
                <a:solidFill>
                  <a:srgbClr val="ffffff"/>
                </a:solidFill>
                <a:latin typeface="Arial"/>
              </a:rPr>
              <a:t>нинг вазифалар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32680" cy="1033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4000" spc="-1" strike="noStrike">
                <a:solidFill>
                  <a:srgbClr val="ffffff"/>
                </a:solidFill>
                <a:latin typeface="Arial"/>
              </a:rPr>
              <a:t>Таълимни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молияла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Скругленный прямоугольник 4"/>
          <p:cNvGrpSpPr/>
          <p:nvPr/>
        </p:nvGrpSpPr>
        <p:grpSpPr>
          <a:xfrm>
            <a:off x="2157480" y="5157720"/>
            <a:ext cx="6754680" cy="1066680"/>
            <a:chOff x="2157480" y="5157720"/>
            <a:chExt cx="6754680" cy="1066680"/>
          </a:xfrm>
        </p:grpSpPr>
        <p:pic>
          <p:nvPicPr>
            <p:cNvPr id="514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57480" y="5157720"/>
              <a:ext cx="67546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255760" y="5267880"/>
              <a:ext cx="656928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3.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Бюджетдан ташқари маблағлар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Скругленный прямоугольник 5"/>
          <p:cNvGrpSpPr/>
          <p:nvPr/>
        </p:nvGrpSpPr>
        <p:grpSpPr>
          <a:xfrm>
            <a:off x="2124000" y="3933720"/>
            <a:ext cx="6778440" cy="998640"/>
            <a:chOff x="2124000" y="3933720"/>
            <a:chExt cx="6778440" cy="998640"/>
          </a:xfrm>
        </p:grpSpPr>
        <p:pic>
          <p:nvPicPr>
            <p:cNvPr id="517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24000" y="393372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2222280" y="403560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2.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Маҳаллий бюджетлар маблағлари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Скругленный прямоугольник 6"/>
          <p:cNvGrpSpPr/>
          <p:nvPr/>
        </p:nvGrpSpPr>
        <p:grpSpPr>
          <a:xfrm>
            <a:off x="2124000" y="2349360"/>
            <a:ext cx="6784920" cy="1150560"/>
            <a:chOff x="2124000" y="2349360"/>
            <a:chExt cx="6784920" cy="1150560"/>
          </a:xfrm>
        </p:grpSpPr>
        <p:pic>
          <p:nvPicPr>
            <p:cNvPr id="520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24000" y="2349360"/>
              <a:ext cx="6784920" cy="11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2219040" y="2512080"/>
              <a:ext cx="6604200" cy="8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1.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Республика бюджети маблағлари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2" name="Picture 2" descr=""/>
          <p:cNvPicPr/>
          <p:nvPr/>
        </p:nvPicPr>
        <p:blipFill>
          <a:blip r:embed="rId4"/>
          <a:stretch/>
        </p:blipFill>
        <p:spPr>
          <a:xfrm>
            <a:off x="611280" y="27082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"/>
          <p:cNvPicPr/>
          <p:nvPr/>
        </p:nvPicPr>
        <p:blipFill>
          <a:blip r:embed="rId5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"/>
          <p:cNvPicPr/>
          <p:nvPr/>
        </p:nvPicPr>
        <p:blipFill>
          <a:blip r:embed="rId6"/>
          <a:stretch/>
        </p:blipFill>
        <p:spPr>
          <a:xfrm>
            <a:off x="539640" y="5445000"/>
            <a:ext cx="13082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Прямоугольник с двумя скругленными противолежащими углами 13"/>
          <p:cNvSpPr/>
          <p:nvPr/>
        </p:nvSpPr>
        <p:spPr>
          <a:xfrm>
            <a:off x="684360" y="2781360"/>
            <a:ext cx="7775280" cy="1368360"/>
          </a:xfrm>
          <a:prstGeom prst="pie">
            <a:avLst/>
          </a:prstGeom>
          <a:solidFill>
            <a:srgbClr val="3366ff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Таълимни ривожлантириш фондлари қонун ҳужжатларида белгиланган тартибда юридик ва жисмоний шахсларнин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хтиёрий бадалларидан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оугольник с двумя скругленными противолежащими углами 14"/>
          <p:cNvSpPr/>
          <p:nvPr/>
        </p:nvSpPr>
        <p:spPr>
          <a:xfrm>
            <a:off x="684360" y="4797360"/>
            <a:ext cx="7775280" cy="1368360"/>
          </a:xfrm>
          <a:prstGeom prst="pie">
            <a:avLst/>
          </a:prstGeom>
          <a:solidFill>
            <a:srgbClr val="3366ff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Чет эллик юридик ва жисмоний шахсларнинг ихтиёрий бадаллари ҳисобидан ташкил этилиши мумки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Заголовок 2"/>
          <p:cNvSpPr/>
          <p:nvPr/>
        </p:nvSpPr>
        <p:spPr>
          <a:xfrm>
            <a:off x="684360" y="476280"/>
            <a:ext cx="8032680" cy="1368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аълимни ривожлантириш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фондлари</a:t>
            </a:r>
            <a:r>
              <a:rPr b="1" i="1" lang="uz-Cyrl-UZ" sz="36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32680" cy="1033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40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алқаро ҳамкорл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Скругленный прямоугольник 4"/>
          <p:cNvGrpSpPr/>
          <p:nvPr/>
        </p:nvGrpSpPr>
        <p:grpSpPr>
          <a:xfrm>
            <a:off x="2157480" y="5157720"/>
            <a:ext cx="6754680" cy="1066680"/>
            <a:chOff x="2157480" y="5157720"/>
            <a:chExt cx="6754680" cy="1066680"/>
          </a:xfrm>
        </p:grpSpPr>
        <p:pic>
          <p:nvPicPr>
            <p:cNvPr id="530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57480" y="5157720"/>
              <a:ext cx="67546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2255760" y="5267880"/>
              <a:ext cx="656928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3.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Қонун ҳужжатларида белгиланган тартибда улар билан қўшма ўқув юртлари ташкил этиш ҳуқуқига эга экан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Скругленный прямоугольник 5"/>
          <p:cNvGrpSpPr/>
          <p:nvPr/>
        </p:nvGrpSpPr>
        <p:grpSpPr>
          <a:xfrm>
            <a:off x="2124000" y="3933720"/>
            <a:ext cx="6778440" cy="998640"/>
            <a:chOff x="2124000" y="3933720"/>
            <a:chExt cx="6778440" cy="998640"/>
          </a:xfrm>
        </p:grpSpPr>
        <p:pic>
          <p:nvPicPr>
            <p:cNvPr id="53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24000" y="393372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2222280" y="403560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Хорижий мамлакатларнинг тегишли ўқув юртлари билан бевосита алоқалар ўрнатиш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5" name="Скругленный прямоугольник 6"/>
          <p:cNvGrpSpPr/>
          <p:nvPr/>
        </p:nvGrpSpPr>
        <p:grpSpPr>
          <a:xfrm>
            <a:off x="2124000" y="2349360"/>
            <a:ext cx="6784920" cy="1150560"/>
            <a:chOff x="2124000" y="2349360"/>
            <a:chExt cx="6784920" cy="1150560"/>
          </a:xfrm>
        </p:grpSpPr>
        <p:pic>
          <p:nvPicPr>
            <p:cNvPr id="53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24000" y="2349360"/>
              <a:ext cx="6784920" cy="11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2219040" y="2512080"/>
              <a:ext cx="6604200" cy="8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Таълим муассасалари таълим муаммолари юзасидан халқаро ҳамкорликда иштирок этишлар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38" name="Picture 2" descr=""/>
          <p:cNvPicPr/>
          <p:nvPr/>
        </p:nvPicPr>
        <p:blipFill>
          <a:blip r:embed="rId4"/>
          <a:stretch/>
        </p:blipFill>
        <p:spPr>
          <a:xfrm>
            <a:off x="611280" y="27082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"/>
          <p:cNvPicPr/>
          <p:nvPr/>
        </p:nvPicPr>
        <p:blipFill>
          <a:blip r:embed="rId5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"/>
          <p:cNvPicPr/>
          <p:nvPr/>
        </p:nvPicPr>
        <p:blipFill>
          <a:blip r:embed="rId6"/>
          <a:stretch/>
        </p:blipFill>
        <p:spPr>
          <a:xfrm>
            <a:off x="539640" y="5445000"/>
            <a:ext cx="13082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0920" y="285840"/>
            <a:ext cx="8032680" cy="127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аълим тўғрисидаги қонун ҳужжатларини</a:t>
            </a:r>
            <a:br>
              <a:rPr sz="2800"/>
            </a:br>
            <a:r>
              <a:rPr b="1" i="1" lang="uz-Cyrl-UZ" sz="2800" spc="-1" strike="noStrike">
                <a:solidFill>
                  <a:srgbClr val="ffffff"/>
                </a:solidFill>
                <a:latin typeface="Arial"/>
              </a:rPr>
              <a:t>бузганлик учун жавобгарлик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Скругленный прямоугольник 4"/>
          <p:cNvGrpSpPr/>
          <p:nvPr/>
        </p:nvGrpSpPr>
        <p:grpSpPr>
          <a:xfrm>
            <a:off x="2157480" y="5224320"/>
            <a:ext cx="6754680" cy="1000440"/>
            <a:chOff x="2157480" y="5224320"/>
            <a:chExt cx="6754680" cy="1000440"/>
          </a:xfrm>
        </p:grpSpPr>
        <p:pic>
          <p:nvPicPr>
            <p:cNvPr id="543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57480" y="5224320"/>
              <a:ext cx="675468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2255760" y="5327640"/>
              <a:ext cx="65692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Жиноий жавобгарлик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Скругленный прямоугольник 5"/>
          <p:cNvGrpSpPr/>
          <p:nvPr/>
        </p:nvGrpSpPr>
        <p:grpSpPr>
          <a:xfrm>
            <a:off x="2157480" y="4011480"/>
            <a:ext cx="6778440" cy="998640"/>
            <a:chOff x="2157480" y="4011480"/>
            <a:chExt cx="6778440" cy="998640"/>
          </a:xfrm>
        </p:grpSpPr>
        <p:pic>
          <p:nvPicPr>
            <p:cNvPr id="546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57480" y="401148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2255760" y="411336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Маъмурий жавобгарлик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Скругленный прямоугольник 6"/>
          <p:cNvGrpSpPr/>
          <p:nvPr/>
        </p:nvGrpSpPr>
        <p:grpSpPr>
          <a:xfrm>
            <a:off x="2157480" y="2901960"/>
            <a:ext cx="6784920" cy="963720"/>
            <a:chOff x="2157480" y="2901960"/>
            <a:chExt cx="6784920" cy="963720"/>
          </a:xfrm>
        </p:grpSpPr>
        <p:pic>
          <p:nvPicPr>
            <p:cNvPr id="549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57480" y="2901960"/>
              <a:ext cx="678492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2252520" y="3038400"/>
              <a:ext cx="6604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Моддий жавобгарлик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Скругленный прямоугольник 7"/>
          <p:cNvGrpSpPr/>
          <p:nvPr/>
        </p:nvGrpSpPr>
        <p:grpSpPr>
          <a:xfrm>
            <a:off x="2157480" y="1755720"/>
            <a:ext cx="6784920" cy="1036800"/>
            <a:chOff x="2157480" y="1755720"/>
            <a:chExt cx="6784920" cy="1036800"/>
          </a:xfrm>
        </p:grpSpPr>
        <p:pic>
          <p:nvPicPr>
            <p:cNvPr id="552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157480" y="1755720"/>
              <a:ext cx="678492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2260440" y="1832040"/>
              <a:ext cx="6588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Интизомий жавобгарлик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4" name="Picture 2" descr=""/>
          <p:cNvPicPr/>
          <p:nvPr/>
        </p:nvPicPr>
        <p:blipFill>
          <a:blip r:embed="rId5"/>
          <a:stretch/>
        </p:blipFill>
        <p:spPr>
          <a:xfrm>
            <a:off x="571680" y="30718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6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"/>
          <p:cNvPicPr/>
          <p:nvPr/>
        </p:nvPicPr>
        <p:blipFill>
          <a:blip r:embed="rId7"/>
          <a:stretch/>
        </p:blipFill>
        <p:spPr>
          <a:xfrm>
            <a:off x="571680" y="5357880"/>
            <a:ext cx="1307880" cy="5461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" descr=""/>
          <p:cNvPicPr/>
          <p:nvPr/>
        </p:nvPicPr>
        <p:blipFill>
          <a:blip r:embed="rId8"/>
          <a:stretch/>
        </p:blipFill>
        <p:spPr>
          <a:xfrm>
            <a:off x="571680" y="2000160"/>
            <a:ext cx="12477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826920" y="404640"/>
            <a:ext cx="7705800" cy="1099440"/>
          </a:xfrm>
          <a:prstGeom prst="rect">
            <a:avLst/>
          </a:prstGeom>
          <a:noFill/>
          <a:ln w="28440">
            <a:solidFill>
              <a:srgbClr val="192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нин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200" spc="-1" strike="noStrike">
                <a:solidFill>
                  <a:srgbClr val="ffffff"/>
                </a:solidFill>
                <a:latin typeface="Arial"/>
              </a:rPr>
              <a:t>меъёрий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-ҳуқуқий ҳужжатларини давлат рўйхатидан ўтказиш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9640" y="1916280"/>
            <a:ext cx="8209080" cy="4435560"/>
          </a:xfrm>
          <a:prstGeom prst="rect">
            <a:avLst/>
          </a:prstGeom>
          <a:noFill/>
          <a:ln w="93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 норматив-ҳуқуқий ҳужжатлар қабул қилинган кундан эътиборан ўн кун ичида уларни давлат рўйхатидан ўтказиш учун Ўзбекистон Республикаси Адлия вазирлигига тақдим этад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нинг давлат рўйхатидан ўтказилмаган норматив-ҳуқуқий ҳужжатлари тегишли ижтимоий муносабатларни ҳуқуқий жиҳатдан тартибга солиш учун асос бўлиб хизмат қилиши мумкин эмас ва ҳуқуқий оқибатларга олиб келмайд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нинг мансабдор шахслари давлат рўйхатидан ўтказилмаган норматив-ҳуқуқий ҳужжатларни амалга киритганлик учун маъмурий жавобгарликка тортилад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306864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684360" y="461880"/>
            <a:ext cx="55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лохаза юритиш учун саволл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11280" y="3575160"/>
            <a:ext cx="82072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Таълим тўғрисидаги Қонунда таълим сифати тушунчаси берилганми?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ОТМда т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аълим сифатини таъминлаш нималарга боғлиқ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Таълим сифати деганда нимани тушунасиз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4.Сиз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шла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ётган ОТМда таълим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сифатини таъминлаш учун нималар қилиш керак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611280" y="2492280"/>
            <a:ext cx="8064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АДРЛАР ТАЙЁРЛА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ИЛЛИЙ ДАСТУ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Ўзбекистон Республикас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лий Мажлисининг Ахборотномаси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997 й., 11-12-сон, 295-модда;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63" name="Picture 5" descr="C:\Users\Латыпов\Desktop\gerb.gif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539640" y="608760"/>
            <a:ext cx="835344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дрлар тайёрлаш миллий дастур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М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ллий тажрибанинг таҳлили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Т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ълим тизимидаги жаҳон миқёсидаги ютуқлар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Ю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сак умумий ва касб-ҳунар маданиятига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жодий ва ижтимоий фаолликка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жтимоий-сиёсий ҳаётда мустақил равишда мўлжални тўғри ола билиш маҳоратига эга бўлган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тиқбол вазифаларини илгари суриш ва ҳал этишга қодир кадрларнинг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янги авлодини шакллантиришга йўналтирилганди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AutoShape 23"/>
          <p:cNvSpPr/>
          <p:nvPr/>
        </p:nvSpPr>
        <p:spPr>
          <a:xfrm>
            <a:off x="250920" y="2205000"/>
            <a:ext cx="8713800" cy="3600360"/>
          </a:xfrm>
          <a:prstGeom prst="verticalScrol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ълим соҳасини тубдан ислоҳ қилиш, уни ўтмишдан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қолган мафкуравий қарашлар ва сарқитлардан тўл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лос</a:t>
            </a: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этиш, ривожланган демократик давлатла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аражасида, юксак маънавий ва ахлоқий талабларг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воб</a:t>
            </a: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ерувчи юқори малакали кадрлар тайёрлаш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иллий тизимини яратишдир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TextBox 3"/>
          <p:cNvGrpSpPr/>
          <p:nvPr/>
        </p:nvGrpSpPr>
        <p:grpSpPr>
          <a:xfrm>
            <a:off x="971640" y="549360"/>
            <a:ext cx="7485120" cy="934920"/>
            <a:chOff x="971640" y="549360"/>
            <a:chExt cx="7485120" cy="934920"/>
          </a:xfrm>
        </p:grpSpPr>
        <p:pic>
          <p:nvPicPr>
            <p:cNvPr id="567" name="TextBox 3" descr=""/>
            <p:cNvPicPr/>
            <p:nvPr/>
          </p:nvPicPr>
          <p:blipFill>
            <a:blip r:embed="rId1"/>
            <a:stretch/>
          </p:blipFill>
          <p:spPr>
            <a:xfrm>
              <a:off x="971640" y="549360"/>
              <a:ext cx="74851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1036800" y="630360"/>
              <a:ext cx="728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Arial"/>
                </a:rPr>
                <a:t>ДАСТУРНИНГ </a:t>
              </a:r>
              <a:r>
                <a:rPr b="1" i="1" lang="uz-Cyrl-UZ" sz="3200" spc="-1" strike="noStrike">
                  <a:solidFill>
                    <a:srgbClr val="ffffff"/>
                  </a:solidFill>
                  <a:latin typeface="Arial"/>
                </a:rPr>
                <a:t>МАҚСАД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5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1. “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Таълим тўғрисида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и Қонунга мувофиқ таълим тизимини ислоҳ қилиш, давлат ва нодавлат таълим муассасалари ҳамда таълим ва кадрлар тайёрлаш соҳасида рақобат муҳитини шакллантириш негизида таълим тизимини ягона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ўқув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лмий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шлаб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чиқариш мажмуи сифатида изчил ривожлантиришни таъминлаш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.Таълим ва кадрлар тайёрлаш тизимини жамиятда амалга оширилаётган янгиланиш, ривожланган демократик ҳуқуқий давлат қурилиши жараёнларига мослаш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.Кадрлар тайёрлаш тизими муассасаларини юқори малакали мутахассислар билан таъминлаш, педагогик фаолиятнинг нуфузи ва ижтимоий мақомини кўтариш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403280" y="476280"/>
            <a:ext cx="6553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7b46d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АСТУРНИНГ ВАЗИФАЛАРИ</a:t>
            </a:r>
            <a:endParaRPr b="1" lang="en-US" sz="2800" spc="1" strike="noStrike">
              <a:ln w="12600">
                <a:solidFill>
                  <a:srgbClr val="ffffff"/>
                </a:solidFill>
                <a:miter/>
              </a:ln>
              <a:solidFill>
                <a:srgbClr val="7b46d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250920" y="549360"/>
            <a:ext cx="8642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4.Кадрлар тайёрлаш тизими ва мазмунини мамлакатнинг ижтимоий ва иқтисодий тараққиёти истиқболларидан, жамият эҳтиёжларидан, фан, маданият, техника ва технологиянинг замонавий ютуқларидан келиб чиққан ҳолда қайта қур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5.Таълим олувчиларни маънавий-ахлоқий тарбиялашнинг ва маърифий ишларнинг самарали шакллари ҳамда услубларини ишлаб чиқиш ва жорий эт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6.Таълим ва кадрлар тайёрлаш, таълим муассасаларини аттестациядан ўтказиш ва аккредитация қилиш сифатига баҳо беришнинг холис тизимини жорий қил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7.Янги ижтимоий-иқтисодий шароитларда таълимнинг талаб қилинадиган даражаси ва сифатини, кадрлар тайёрлаш тизимининг амалда фаолият кўрсатиши ва барқарор ривожланишининг кафолатларини, устуворлигини таъминловчи норматив, моддий-техника ва ахборот базасини ярат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468360" y="76500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Таълим, фан ва ишлаб чиқариш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нин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амарали интеграциялашувини таъминлаш, тайёрланаётган кадрларнинг миқдори ва сифатига нисбатан давлатнинг талабларини, шунингдек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одавлат тузилмалари, корхоналар ва ташкилотларнинг буюртмаларини шакллантиришнинг механизмларини ишлаб чиқ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Узлуксиз таълим ва кадрлар тайёрлаш тизимига бюджетдан ташқари маблағлар, шу жумладан чет эл инвестициялари жалб этишнинг реал механизмларини ишлаб чиқиш ва амалиётга жорий э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.Кадрлар тайёрлаш соҳасида ўзаро манфаатли халқаро ҳамкорликни ривожлантириш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971640" y="189000"/>
            <a:ext cx="72673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АСТУРНИ РЎЁБГА ЧИҚАРИШ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ОСҚИЧЛА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0920" y="5013360"/>
            <a:ext cx="8642160" cy="1191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УЧИНЧИ БОСҚИ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2005 ва ундан кейинги йиллар) тўпланган тажрибани таҳлил этиш ва умумлаштириш асосида, мамлакатни ижтимоий-иқтисодий ривожлантириш истиқболларига мувофиқ кадрлар тайёрлаш тизимини такомиллаштириш ва янада ривожлантири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0920" y="3789360"/>
            <a:ext cx="8642160" cy="9169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ККИНЧИ БОСҚИ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2001 — 2005 йиллар) Миллий дастурни тўлиқ рўёбга чиқариш, меҳнат бозорининг ривожланиши ва реал ижтимоий-иқтисодий шароитларни ҳисобга олган ҳолда унга аниқликлар кирити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50920" y="2205000"/>
            <a:ext cx="8642160" cy="119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ИРИНЧИ БОСҚИ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1997 — 2001 йиллар) мавжуд кадрлар тайёрлаш тизимининг ижобий салоҳиятини сақлаб қолиш асосида ушбу тизимни ислоҳ қилиш ва ривожлантириш учун ҳуқуқий, кадрлар жиҳатидан, илмий-услубий, молиявий-моддий шарт-шароитлар ярати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250920" y="260280"/>
            <a:ext cx="8640720" cy="6336720"/>
            <a:chOff x="250920" y="260280"/>
            <a:chExt cx="8640720" cy="6336720"/>
          </a:xfrm>
        </p:grpSpPr>
        <p:cxnSp>
          <p:nvCxnSpPr>
            <p:cNvPr id="578" name="_s509956"/>
            <p:cNvCxnSpPr>
              <a:stCxn id="579" idx="1"/>
              <a:endCxn id="580" idx="2"/>
            </p:cNvCxnSpPr>
            <p:nvPr/>
          </p:nvCxnSpPr>
          <p:spPr>
            <a:xfrm rot="10800000">
              <a:off x="2842200" y="1004760"/>
              <a:ext cx="864720" cy="5219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1" name="_s509957"/>
            <p:cNvCxnSpPr>
              <a:stCxn id="582" idx="1"/>
              <a:endCxn id="580" idx="2"/>
            </p:cNvCxnSpPr>
            <p:nvPr/>
          </p:nvCxnSpPr>
          <p:spPr>
            <a:xfrm rot="10800000">
              <a:off x="2842200" y="1005480"/>
              <a:ext cx="864720" cy="4100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3" name="_s509958"/>
            <p:cNvCxnSpPr>
              <a:stCxn id="584" idx="1"/>
              <a:endCxn id="580" idx="2"/>
            </p:cNvCxnSpPr>
            <p:nvPr/>
          </p:nvCxnSpPr>
          <p:spPr>
            <a:xfrm rot="10800000">
              <a:off x="2842200" y="1004760"/>
              <a:ext cx="864720" cy="2982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5" name="_s509959"/>
            <p:cNvCxnSpPr>
              <a:stCxn id="586" idx="1"/>
              <a:endCxn id="580" idx="2"/>
            </p:cNvCxnSpPr>
            <p:nvPr/>
          </p:nvCxnSpPr>
          <p:spPr>
            <a:xfrm rot="10800000">
              <a:off x="2842200" y="1004760"/>
              <a:ext cx="864720" cy="186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7" name="_s509960"/>
            <p:cNvCxnSpPr>
              <a:stCxn id="588" idx="1"/>
              <a:endCxn id="580" idx="2"/>
            </p:cNvCxnSpPr>
            <p:nvPr/>
          </p:nvCxnSpPr>
          <p:spPr>
            <a:xfrm rot="10800000">
              <a:off x="2842200" y="1004760"/>
              <a:ext cx="864720" cy="74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80" name="_s509961"/>
            <p:cNvSpPr/>
            <p:nvPr/>
          </p:nvSpPr>
          <p:spPr>
            <a:xfrm>
              <a:off x="250920" y="26028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Кадрлар тайёрлаш миллий моделининг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асосий таркибий қисмлари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_s509962"/>
            <p:cNvSpPr/>
            <p:nvPr/>
          </p:nvSpPr>
          <p:spPr>
            <a:xfrm>
              <a:off x="3707280" y="137844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Шахс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- кадрлар тайёрлаш тизимининг бош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субъекти ва объекти</a:t>
              </a: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_s509963"/>
            <p:cNvSpPr/>
            <p:nvPr/>
          </p:nvSpPr>
          <p:spPr>
            <a:xfrm>
              <a:off x="3707280" y="249660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Давлат ва жамият</a:t>
              </a: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 - 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кадрлар тайёрлаш ва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уларни қабул қилиб олишнинг кафиллари;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_s509964"/>
            <p:cNvSpPr/>
            <p:nvPr/>
          </p:nvSpPr>
          <p:spPr>
            <a:xfrm>
              <a:off x="3707280" y="361512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Узлуксиз таълим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- малакали рақобатбардош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кадрлар тайёрлашнинг асоси</a:t>
              </a: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_s509965"/>
            <p:cNvSpPr/>
            <p:nvPr/>
          </p:nvSpPr>
          <p:spPr>
            <a:xfrm>
              <a:off x="3707280" y="473328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Фан 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- юқори малакали мутахассислар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тайёрловчи ва улардан фойдаланувчи</a:t>
              </a: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_s509966"/>
            <p:cNvSpPr/>
            <p:nvPr/>
          </p:nvSpPr>
          <p:spPr>
            <a:xfrm>
              <a:off x="3707280" y="585180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Ишлаб чиқариш</a:t>
              </a: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 - кадрларга бўлган эҳтиёжни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уларнинг тайёргарлик сифати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а</a:t>
              </a: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  қўйиладиган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талабларни белгиловчи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2852640"/>
            <a:ext cx="785016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eaeaea"/>
                </a:solidFill>
                <a:latin typeface="Arial"/>
              </a:rPr>
              <a:t>КОНСТИТУ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900000" y="3933720"/>
            <a:ext cx="792000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eaeaea"/>
                </a:solidFill>
                <a:latin typeface="Arial"/>
              </a:rPr>
              <a:t>КОНСТИТУЦИЯВИЙ ҚОНУН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00000" y="5084640"/>
            <a:ext cx="788508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eaeaea"/>
                </a:solidFill>
                <a:latin typeface="Arial"/>
              </a:rPr>
              <a:t>ЖОРИЙ ҚОНУН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Заголовок 2"/>
          <p:cNvSpPr/>
          <p:nvPr/>
        </p:nvSpPr>
        <p:spPr>
          <a:xfrm>
            <a:off x="755640" y="692280"/>
            <a:ext cx="8032680" cy="100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4400" spc="-1" strike="noStrike">
                <a:solidFill>
                  <a:srgbClr val="ffffff"/>
                </a:solidFill>
                <a:latin typeface="Arial"/>
              </a:rPr>
              <a:t>ҚОНУН ХУЖЖАТЛАР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250920" y="189000"/>
            <a:ext cx="8640720" cy="6408360"/>
            <a:chOff x="250920" y="189000"/>
            <a:chExt cx="8640720" cy="6408360"/>
          </a:xfrm>
        </p:grpSpPr>
        <p:cxnSp>
          <p:nvCxnSpPr>
            <p:cNvPr id="590" name="_s510980"/>
            <p:cNvCxnSpPr>
              <a:stCxn id="591" idx="1"/>
              <a:endCxn id="592" idx="2"/>
            </p:cNvCxnSpPr>
            <p:nvPr/>
          </p:nvCxnSpPr>
          <p:spPr>
            <a:xfrm rot="10800000">
              <a:off x="2842200" y="942120"/>
              <a:ext cx="864720" cy="5277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3" name="_s510981"/>
            <p:cNvCxnSpPr>
              <a:stCxn id="594" idx="1"/>
              <a:endCxn id="592" idx="2"/>
            </p:cNvCxnSpPr>
            <p:nvPr/>
          </p:nvCxnSpPr>
          <p:spPr>
            <a:xfrm rot="10800000">
              <a:off x="2842200" y="942120"/>
              <a:ext cx="864720" cy="4147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5" name="_s510982"/>
            <p:cNvCxnSpPr>
              <a:stCxn id="596" idx="1"/>
              <a:endCxn id="592" idx="2"/>
            </p:cNvCxnSpPr>
            <p:nvPr/>
          </p:nvCxnSpPr>
          <p:spPr>
            <a:xfrm rot="10800000">
              <a:off x="2842200" y="942120"/>
              <a:ext cx="864720" cy="3016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7" name="_s510983"/>
            <p:cNvCxnSpPr>
              <a:stCxn id="598" idx="1"/>
              <a:endCxn id="592" idx="2"/>
            </p:cNvCxnSpPr>
            <p:nvPr/>
          </p:nvCxnSpPr>
          <p:spPr>
            <a:xfrm rot="10800000">
              <a:off x="2842200" y="942120"/>
              <a:ext cx="864720" cy="1885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9" name="_s510984"/>
            <p:cNvCxnSpPr>
              <a:stCxn id="600" idx="1"/>
              <a:endCxn id="592" idx="2"/>
            </p:cNvCxnSpPr>
            <p:nvPr/>
          </p:nvCxnSpPr>
          <p:spPr>
            <a:xfrm rot="10800000">
              <a:off x="2842200" y="942120"/>
              <a:ext cx="864720" cy="754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2" name="_s510985"/>
            <p:cNvSpPr/>
            <p:nvPr/>
          </p:nvSpPr>
          <p:spPr>
            <a:xfrm>
              <a:off x="250920" y="18900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КАДРЛАР ТАЙЁРЛАШ ТИЗИМИН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РИВОЖЛАНТИРИШНИНГ АСОСИ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Й</a:t>
              </a:r>
              <a:r>
                <a:rPr b="1" lang="uz-Cyrl-UZ" sz="1600" spc="-1" strike="noStrike">
                  <a:solidFill>
                    <a:srgbClr val="ffffff"/>
                  </a:solidFill>
                  <a:latin typeface="Arial"/>
                </a:rPr>
                <a:t>Ў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АЛИШЛАРИ</a:t>
              </a:r>
              <a:r>
                <a:rPr b="1" lang="uz-Cyrl-UZ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_s510986"/>
            <p:cNvSpPr/>
            <p:nvPr/>
          </p:nvSpPr>
          <p:spPr>
            <a:xfrm>
              <a:off x="3707280" y="131976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аълимнинг узлуксизлигини таъминлаш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_s510987"/>
            <p:cNvSpPr/>
            <p:nvPr/>
          </p:nvSpPr>
          <p:spPr>
            <a:xfrm>
              <a:off x="3707280" y="245052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Педагог ва илмий-педагог кадрлар тайёрлаш,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қайта тайёрлаш ва уларни малакасини ошириш</a:t>
              </a:r>
              <a:r>
                <a:rPr b="0" lang="uz-Cyrl-UZ" sz="17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_s510988"/>
            <p:cNvSpPr/>
            <p:nvPr/>
          </p:nvSpPr>
          <p:spPr>
            <a:xfrm>
              <a:off x="3707280" y="358164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аълим жараёнини мазмунан ислоҳ қилиш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_s510989"/>
            <p:cNvSpPr/>
            <p:nvPr/>
          </p:nvSpPr>
          <p:spPr>
            <a:xfrm>
              <a:off x="3707280" y="471240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Маънавий-ахлоқий тарбия ва маърифи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шлар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_s510990"/>
            <p:cNvSpPr/>
            <p:nvPr/>
          </p:nvSpPr>
          <p:spPr>
            <a:xfrm>
              <a:off x="3707280" y="584352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қтидорли болалар ва истеъдодли ёшлар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395280" y="1052640"/>
            <a:ext cx="3600360" cy="2663640"/>
          </a:xfrm>
          <a:prstGeom prst="flowChartMagneticTap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55640" y="198900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uz-Cyrl-UZ" sz="2000" spc="-1" strike="noStrike">
                <a:solidFill>
                  <a:srgbClr val="000000"/>
                </a:solidFill>
                <a:latin typeface="Arial"/>
              </a:rPr>
              <a:t>аълим тизимини бошқариш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148360" y="1052640"/>
            <a:ext cx="3529080" cy="2520720"/>
          </a:xfrm>
          <a:prstGeom prst="flowChartMagneticTap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508720" y="198900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uz-Cyrl-UZ" sz="2000" spc="-1" strike="noStrike">
                <a:solidFill>
                  <a:srgbClr val="000000"/>
                </a:solidFill>
                <a:latin typeface="Arial"/>
              </a:rPr>
              <a:t>аълим тизимини молиялаш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84360" y="4221000"/>
            <a:ext cx="3240000" cy="2232360"/>
          </a:xfrm>
          <a:prstGeom prst="flowChartMagneticTap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11280" y="472428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Касб-ҳунар таълими сифатини назорат қилиш тизимини шакллантири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292720" y="4292640"/>
            <a:ext cx="3384720" cy="2232000"/>
          </a:xfrm>
          <a:prstGeom prst="flowChartMagneticTap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580000" y="501336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000000"/>
                </a:solidFill>
                <a:latin typeface="Arial"/>
              </a:rPr>
              <a:t>Моддий техника таъмино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95280" y="333360"/>
            <a:ext cx="3672000" cy="1511280"/>
          </a:xfrm>
          <a:prstGeom prst="wedgeRoundRectCallout">
            <a:avLst>
              <a:gd name="adj1" fmla="val -55143"/>
              <a:gd name="adj2" fmla="val 54620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24000" y="2421000"/>
            <a:ext cx="3671640" cy="1584360"/>
          </a:xfrm>
          <a:prstGeom prst="wedgeRoundRectCallout">
            <a:avLst>
              <a:gd name="adj1" fmla="val -53157"/>
              <a:gd name="adj2" fmla="val 78856"/>
              <a:gd name="adj3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9280" y="4653000"/>
            <a:ext cx="3888000" cy="1584360"/>
          </a:xfrm>
          <a:prstGeom prst="wedgeRoundRectCallout">
            <a:avLst>
              <a:gd name="adj1" fmla="val -48162"/>
              <a:gd name="adj2" fmla="val 71643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012000" y="189000"/>
            <a:ext cx="2952720" cy="1584360"/>
          </a:xfrm>
          <a:prstGeom prst="wedgeRoundRectCallout">
            <a:avLst>
              <a:gd name="adj1" fmla="val 38976"/>
              <a:gd name="adj2" fmla="val 73449"/>
              <a:gd name="adj3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227640" y="333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ан билан таълим жараёни алоқ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ри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ни ривожлантири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012000" y="2349360"/>
            <a:ext cx="2952720" cy="1584360"/>
          </a:xfrm>
          <a:prstGeom prst="wedgeRoundRectCallout">
            <a:avLst>
              <a:gd name="adj1" fmla="val 40430"/>
              <a:gd name="adj2" fmla="val 72546"/>
              <a:gd name="adj3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084720" y="2565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шлаб чиқа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риш ва таълим тизим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интеграциялашувини 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вожлантири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4508640"/>
            <a:ext cx="3097440" cy="1944720"/>
          </a:xfrm>
          <a:prstGeom prst="wedgeRoundRectCallout">
            <a:avLst>
              <a:gd name="adj1" fmla="val 38106"/>
              <a:gd name="adj2" fmla="val 65263"/>
              <a:gd name="adj3" fmla="val 16667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12000" y="4869000"/>
            <a:ext cx="28796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000000"/>
                </a:solidFill>
                <a:latin typeface="Arial"/>
              </a:rPr>
              <a:t>Таълим ва кадрлар тайёрлаш сохасидаги халқаро ҳамкорлик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50920" y="479736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Таълим сохасида ижтимоий кафолотларни таъминлаш хамда бу сохани давлат томонидан қўллаб қувватлаш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55640" y="2781360"/>
            <a:ext cx="28796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000000"/>
                </a:solidFill>
                <a:latin typeface="Arial"/>
              </a:rPr>
              <a:t>Таълим хизмати кўрсатиш бозорини ривожлантириш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39640" y="620640"/>
            <a:ext cx="33116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000000"/>
                </a:solidFill>
                <a:latin typeface="Arial"/>
              </a:rPr>
              <a:t>Таълим тизимининг яхлит ахборот маконини вужудга келтириш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4"/>
          <p:cNvSpPr/>
          <p:nvPr/>
        </p:nvSpPr>
        <p:spPr>
          <a:xfrm>
            <a:off x="395280" y="278136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3048120"/>
                <a:tab algn="l" pos="3314880"/>
                <a:tab algn="l" pos="4038480"/>
                <a:tab algn="l" pos="4486320"/>
                <a:tab algn="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5400" spc="-1" strike="noStrike">
                <a:solidFill>
                  <a:srgbClr val="ffffff"/>
                </a:solidFill>
                <a:latin typeface="Arial"/>
              </a:rPr>
              <a:t>ЭЪТИБОРИНГИЗ УЧУН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3048120"/>
                <a:tab algn="l" pos="3314880"/>
                <a:tab algn="l" pos="4038480"/>
                <a:tab algn="l" pos="4486320"/>
                <a:tab algn="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5400" spc="-1" strike="noStrike">
                <a:solidFill>
                  <a:srgbClr val="ffffff"/>
                </a:solidFill>
                <a:latin typeface="Arial"/>
              </a:rPr>
              <a:t>РАҲМАТ</a:t>
            </a: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9"/>
          <p:cNvSpPr/>
          <p:nvPr/>
        </p:nvSpPr>
        <p:spPr>
          <a:xfrm>
            <a:off x="1042920" y="4508640"/>
            <a:ext cx="7056360" cy="0"/>
          </a:xfrm>
          <a:prstGeom prst="line">
            <a:avLst/>
          </a:prstGeom>
          <a:ln w="1260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Picture 5" descr="uz1"/>
          <p:cNvPicPr/>
          <p:nvPr/>
        </p:nvPicPr>
        <p:blipFill>
          <a:blip r:embed="rId1"/>
          <a:stretch/>
        </p:blipFill>
        <p:spPr>
          <a:xfrm>
            <a:off x="5292720" y="189000"/>
            <a:ext cx="3311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4"/>
          <p:cNvGrpSpPr/>
          <p:nvPr/>
        </p:nvGrpSpPr>
        <p:grpSpPr>
          <a:xfrm>
            <a:off x="395280" y="620640"/>
            <a:ext cx="8352720" cy="5472000"/>
            <a:chOff x="395280" y="620640"/>
            <a:chExt cx="8352720" cy="5472000"/>
          </a:xfrm>
        </p:grpSpPr>
        <p:grpSp>
          <p:nvGrpSpPr>
            <p:cNvPr id="386" name="Rectangle 5"/>
            <p:cNvGrpSpPr/>
            <p:nvPr/>
          </p:nvGrpSpPr>
          <p:grpSpPr>
            <a:xfrm>
              <a:off x="2813400" y="620640"/>
              <a:ext cx="3590280" cy="1256040"/>
              <a:chOff x="2813400" y="620640"/>
              <a:chExt cx="3590280" cy="1256040"/>
            </a:xfrm>
          </p:grpSpPr>
          <p:pic>
            <p:nvPicPr>
              <p:cNvPr id="387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3400" y="620640"/>
                <a:ext cx="3590280" cy="12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2874960" y="655200"/>
                <a:ext cx="347724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4000" spc="-1" strike="noStrike">
                    <a:solidFill>
                      <a:srgbClr val="ffffff"/>
                    </a:solidFill>
                    <a:latin typeface="Arial"/>
                  </a:rPr>
                  <a:t>Қонуности 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4000" spc="-1" strike="noStrike">
                    <a:solidFill>
                      <a:srgbClr val="ffffff"/>
                    </a:solidFill>
                    <a:latin typeface="Arial"/>
                  </a:rPr>
                  <a:t>хужжатлари: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9" name="Rectangle 6"/>
            <p:cNvGrpSpPr/>
            <p:nvPr/>
          </p:nvGrpSpPr>
          <p:grpSpPr>
            <a:xfrm>
              <a:off x="395280" y="2821680"/>
              <a:ext cx="3589560" cy="1261800"/>
              <a:chOff x="395280" y="2821680"/>
              <a:chExt cx="3589560" cy="1261800"/>
            </a:xfrm>
          </p:grpSpPr>
          <p:pic>
            <p:nvPicPr>
              <p:cNvPr id="390" name="Rectangl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280" y="2821680"/>
                <a:ext cx="3589560" cy="12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"/>
              <p:cNvSpPr/>
              <p:nvPr/>
            </p:nvSpPr>
            <p:spPr>
              <a:xfrm>
                <a:off x="454320" y="2859840"/>
                <a:ext cx="3476520" cy="114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ffff"/>
                    </a:solidFill>
                    <a:latin typeface="Arial"/>
                  </a:rPr>
                  <a:t>ФАРМОН</a:t>
                </a:r>
                <a:r>
                  <a:rPr b="0" i="1" lang="en-US" sz="2800" spc="-1" strike="noStrike">
                    <a:solidFill>
                      <a:srgbClr val="e8005e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2" name="Rectangle 7"/>
            <p:cNvGrpSpPr/>
            <p:nvPr/>
          </p:nvGrpSpPr>
          <p:grpSpPr>
            <a:xfrm>
              <a:off x="395280" y="4836600"/>
              <a:ext cx="3589560" cy="1256040"/>
              <a:chOff x="395280" y="4836600"/>
              <a:chExt cx="3589560" cy="1256040"/>
            </a:xfrm>
          </p:grpSpPr>
          <p:pic>
            <p:nvPicPr>
              <p:cNvPr id="393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5280" y="4836600"/>
                <a:ext cx="3589560" cy="12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454320" y="4873680"/>
                <a:ext cx="347652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2800" spc="-1" strike="noStrike">
                    <a:solidFill>
                      <a:srgbClr val="ffffff"/>
                    </a:solidFill>
                    <a:latin typeface="Arial"/>
                  </a:rPr>
                  <a:t>Қ</a:t>
                </a:r>
                <a:r>
                  <a:rPr b="1" i="1" lang="ru-RU" sz="2800" spc="-1" strike="noStrike">
                    <a:solidFill>
                      <a:srgbClr val="ffffff"/>
                    </a:solidFill>
                    <a:latin typeface="Arial"/>
                  </a:rPr>
                  <a:t>АРОР</a:t>
                </a:r>
                <a:r>
                  <a:rPr b="0" lang="ru-RU" sz="2400" spc="-1" strike="noStrike">
                    <a:solidFill>
                      <a:srgbClr val="e8005e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Rectangle 8"/>
            <p:cNvGrpSpPr/>
            <p:nvPr/>
          </p:nvGrpSpPr>
          <p:grpSpPr>
            <a:xfrm>
              <a:off x="5158440" y="4836600"/>
              <a:ext cx="3589560" cy="1256040"/>
              <a:chOff x="5158440" y="4836600"/>
              <a:chExt cx="3589560" cy="1256040"/>
            </a:xfrm>
          </p:grpSpPr>
          <p:pic>
            <p:nvPicPr>
              <p:cNvPr id="39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158440" y="4836600"/>
                <a:ext cx="3589560" cy="12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5218200" y="4871520"/>
                <a:ext cx="347652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2800" spc="-1" strike="noStrike">
                    <a:solidFill>
                      <a:srgbClr val="ffffff"/>
                    </a:solidFill>
                    <a:latin typeface="Arial"/>
                  </a:rPr>
                  <a:t>БУЙРУҚ</a:t>
                </a:r>
                <a:r>
                  <a:rPr b="0" i="1" lang="ru-RU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8" name="Rectangle 9"/>
            <p:cNvGrpSpPr/>
            <p:nvPr/>
          </p:nvGrpSpPr>
          <p:grpSpPr>
            <a:xfrm>
              <a:off x="5158440" y="2821680"/>
              <a:ext cx="3589560" cy="1261800"/>
              <a:chOff x="5158440" y="2821680"/>
              <a:chExt cx="3589560" cy="1261800"/>
            </a:xfrm>
          </p:grpSpPr>
          <p:pic>
            <p:nvPicPr>
              <p:cNvPr id="399" name="Rectangle 9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8440" y="2821680"/>
                <a:ext cx="3589560" cy="12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>
                <a:off x="5218200" y="2859840"/>
                <a:ext cx="3476520" cy="114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ffff"/>
                    </a:solidFill>
                    <a:latin typeface="Arial"/>
                  </a:rPr>
                  <a:t>ФАРМОЙИШ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1" name="Line 10"/>
            <p:cNvSpPr/>
            <p:nvPr/>
          </p:nvSpPr>
          <p:spPr>
            <a:xfrm>
              <a:off x="4538520" y="1804680"/>
              <a:ext cx="0" cy="393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11"/>
            <p:cNvSpPr/>
            <p:nvPr/>
          </p:nvSpPr>
          <p:spPr>
            <a:xfrm>
              <a:off x="4538520" y="5737320"/>
              <a:ext cx="679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 flipH="1">
              <a:off x="3933360" y="5737320"/>
              <a:ext cx="604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H="1">
              <a:off x="3933360" y="3435120"/>
              <a:ext cx="604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4"/>
            <p:cNvSpPr/>
            <p:nvPr/>
          </p:nvSpPr>
          <p:spPr>
            <a:xfrm>
              <a:off x="4538520" y="3435120"/>
              <a:ext cx="679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68360" y="2993760"/>
            <a:ext cx="820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Қонун ..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2. Фармон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3. Фармойиш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4. Қарор...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5. Буйруқ..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285264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2"/>
          <p:cNvSpPr/>
          <p:nvPr/>
        </p:nvSpPr>
        <p:spPr>
          <a:xfrm>
            <a:off x="900000" y="476280"/>
            <a:ext cx="5472360" cy="936720"/>
          </a:xfrm>
          <a:prstGeom prst="horizontalScroll">
            <a:avLst>
              <a:gd name="adj" fmla="val 12500"/>
            </a:avLst>
          </a:prstGeom>
          <a:solidFill>
            <a:srgbClr val="008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800" spc="-1" strike="noStrike">
                <a:solidFill>
                  <a:srgbClr val="ff0000"/>
                </a:solidFill>
                <a:latin typeface="Arial"/>
              </a:rPr>
              <a:t>С  А  В  О  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ятно 1 8"/>
          <p:cNvSpPr/>
          <p:nvPr/>
        </p:nvSpPr>
        <p:spPr>
          <a:xfrm>
            <a:off x="0" y="1500120"/>
            <a:ext cx="9144000" cy="5357880"/>
          </a:xfrm>
          <a:prstGeom prst="irregularSeal1">
            <a:avLst/>
          </a:prstGeom>
          <a:gradFill rotWithShape="0">
            <a:gsLst>
              <a:gs pos="0">
                <a:srgbClr val="a3eeff"/>
              </a:gs>
              <a:gs pos="100000">
                <a:srgbClr val="e5faff"/>
              </a:gs>
            </a:gsLst>
            <a:lin ang="16200000"/>
          </a:gradFill>
          <a:ln cap="rnd" w="6480">
            <a:solidFill>
              <a:srgbClr val="5bb2ca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i="1" lang="uz-Cyrl-UZ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рҳамат, кимдан эшитамиз</a:t>
            </a:r>
            <a:r>
              <a:rPr b="0" lang="uz-Cyrl-UZ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. 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Picture 12" descr=""/>
          <p:cNvPicPr/>
          <p:nvPr/>
        </p:nvPicPr>
        <p:blipFill>
          <a:blip r:embed="rId1"/>
          <a:stretch/>
        </p:blipFill>
        <p:spPr>
          <a:xfrm>
            <a:off x="8388360" y="189000"/>
            <a:ext cx="41904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9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1:39:02Z</dcterms:created>
  <dc:creator>LORD</dc:creator>
  <dc:description/>
  <dc:language>en-US</dc:language>
  <cp:lastModifiedBy>User</cp:lastModifiedBy>
  <dcterms:modified xsi:type="dcterms:W3CDTF">2015-09-16T16:00:27Z</dcterms:modified>
  <cp:revision>248</cp:revision>
  <dc:subject/>
  <dc:title>Слайд 1</dc:title>
</cp:coreProperties>
</file>